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E31E-62AA-4A21-AA0B-1BC219994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A17C-78D2-4DFE-BF05-DA954A6C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BD63-D9EC-4FFC-997D-7C4F4C04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9D7B-D5EB-46FD-BDEA-098F5180B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EAA6-F692-498D-8B44-DF42EB12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D527-3C05-4422-94D7-92577E7E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36C1-57EF-4563-9031-7DA1760C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7B5D-98B7-4C1C-AD11-BBBF2292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94BE-272F-4575-9E21-62C32CC4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22C8-B474-4573-A7B7-7B817E11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ECA4-5E12-4B3A-B16E-E0B4FB92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7076-82FC-4613-8D7F-7FCE12A3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3506-B650-41F0-BE0C-F0384A91D56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Practice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58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1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142920" y="1285920"/>
            <a:ext cx="4500360" cy="55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 φιλεις τον θεον, σοφος ε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 ἠκουσεν οὐκ ἀν ἀπεθαν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αν ὁ βασιλευς ἐξελθῃ, οἱ δουλοι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πολυθησον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 το εὐαγγελιον κηρυσσεται,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χαιρετ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 ἀκαθαρτοι ἠμεν, οὐκ ἀν ἐν τῳ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ἱερῳ ἐκαθημεθ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αν ἐγω δω σοι, δωσεις οὐν συ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λλοι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4357800" y="1986120"/>
            <a:ext cx="40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(s.) love God, you are w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4357800" y="2428920"/>
            <a:ext cx="48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he had heard, he would not have d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4357800" y="2871720"/>
            <a:ext cx="400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king goes out, the slav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ll be relea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4357800" y="3757680"/>
            <a:ext cx="40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gospel is preached, rejoic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4357800" y="46576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we were unclean, then we would not sit in the te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4371840" y="5543640"/>
            <a:ext cx="45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I give to you (s.), will you therefore give to oth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Practice 2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1200" y="258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142920" y="1285920"/>
            <a:ext cx="450036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λθοντος δε Ἰησου οἱ   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ιδασκαλοι ἐθαυμαζ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 γαρ ἐβλεπον ἐπιστευον ἀ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υ δε βασιλεως ἀποθανοντος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ἠλθον εἰς την Γαλιλαι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ἡμερας γενομενης ἐλαλει τῳ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ὀχλ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αν τα δαιμονια ἐκβληθῃ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ὐχαριστησομ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υ γαρ λογου κηρυσσομενου   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ἱ ἀκουοντες ἐπιστευσ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4314960" y="1928880"/>
            <a:ext cx="46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Jesus came, the teachers wer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a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4313160" y="2657520"/>
            <a:ext cx="46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it they see they would belie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4313160" y="30430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the king died, they went int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lil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4327560" y="3749760"/>
            <a:ext cx="503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day came (happened) he was talking (began to talk) to the crow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4343400" y="4486320"/>
            <a:ext cx="46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demons are thrown out, we wil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jo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4343400" y="5214960"/>
            <a:ext cx="46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while the word was being preached, those who were listening belie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3"/>
          <p:cNvSpPr/>
          <p:nvPr/>
        </p:nvSpPr>
        <p:spPr>
          <a:xfrm>
            <a:off x="142920" y="1285920"/>
            <a:ext cx="4500360" cy="54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ὐτου δε ὀντος ἁγιου παντες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φοβουντ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 ὁ νομος οὐκ ἐδωθη, οὐκ ἀν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γνωσαν την ἁμαρτι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she came in the angel sai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her, ‘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he is holy he will worship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it were day we would not be afra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he had been raised everyon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s amazed.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4429080" y="1976400"/>
            <a:ext cx="46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nce he was holy, they all were afra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4429080" y="286056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law had not been given, the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uld not have known s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Practice 3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241200" y="258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4430880" y="3728880"/>
            <a:ext cx="45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ὐτης εἰσερχομενης, ὁ ἀγγελος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πεν αὐτῃ∙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4444920" y="461484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αν ᾐ ἁγιος προσκυνησει τῳ θε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2"/>
          <p:cNvSpPr/>
          <p:nvPr/>
        </p:nvSpPr>
        <p:spPr>
          <a:xfrm>
            <a:off x="4459320" y="5067360"/>
            <a:ext cx="45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 ἡμερα ἠν οὐκ ἀν ἐφοβουμεθ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3"/>
          <p:cNvSpPr/>
          <p:nvPr/>
        </p:nvSpPr>
        <p:spPr>
          <a:xfrm>
            <a:off x="4473720" y="5513400"/>
            <a:ext cx="45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ὐτου ἐγερθεντος παντες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θαυμαζ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Practic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2920" y="1285920"/>
            <a:ext cx="4500360" cy="50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διδασκαλος ἠν καθημενος μετ’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ὐτ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ν τῳ προφητῃ ἐστιν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γεγραμμεν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ἠν Ἰωσηφ ἐνδεδυμενος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λον ἱματι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ιμωμενος δε ἐσται ὁ προφητ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4313160" y="1976400"/>
            <a:ext cx="46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eacher was sitting with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4313160" y="2860560"/>
            <a:ext cx="464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written in the prophet. (Perfect participle – it stands written, it has been writ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4314960" y="4229280"/>
            <a:ext cx="46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Joseph was wearing a beautiful gar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4313160" y="5100480"/>
            <a:ext cx="54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phet will be honou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241200" y="258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3 PERIPHRASTIC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Practice 5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142920" y="5724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COMPARISON AND FORMATION OF ADJECTIVES AND AD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285840" y="1228680"/>
            <a:ext cx="400032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s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ἁγιωτα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λαχιστοι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κωτερ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ονηροτατο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ειζον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ἱκανω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2143080" y="199224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lative Adverb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djective Neuter Nomina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ccusative P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2157480" y="308448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lative Adjective Neute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asculine Dative P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2157480" y="36432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rative Adjective Neute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asculine Genitive 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2157480" y="419904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lative Adjective Masculine Nominative P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2157480" y="474336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rative Adjective Masculine Accusative Sing.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ter Nominativ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ccusative P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2155680" y="584352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e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2:25:55Z</dcterms:created>
  <dc:creator>Sarah</dc:creator>
  <dc:description/>
  <dc:language>en-US</dc:language>
  <cp:lastModifiedBy>Sarah</cp:lastModifiedBy>
  <dcterms:modified xsi:type="dcterms:W3CDTF">2009-08-15T18:42:47Z</dcterms:modified>
  <cp:revision>9</cp:revision>
  <dc:subject/>
  <dc:title>Slide 1</dc:title>
</cp:coreProperties>
</file>